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5DC2-418A-4776-82EE-24E67D210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5AB-E1E5-4BFC-A634-54D50354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06D-69A9-44EA-A2F8-3BBB629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5C1-DDA1-49AF-B6BB-7D5919E4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6E0-F995-497A-920B-5FF4015E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F4A-D700-4657-A801-F6F6134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6F8-42DB-4FDA-A9E6-3D82CE73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935-89F0-4FE9-86D8-5603C42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230-50D8-4A3A-9787-5BE410CF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111-4B9B-4F66-B2B5-CBEF571B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9AF-B433-432A-85EF-1B1F785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59D-E5EC-40ED-BC04-4504CEF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070-ACB8-44FE-B646-2C40C4B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842-AD02-4005-BA2B-B6751C29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“dark side”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86200" y="1878120"/>
            <a:ext cx="4876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3-06-05T02:28:52Z</dcterms:modified>
  <cp:revision>41</cp:revision>
  <dc:subject/>
  <dc:title>Plant Growth</dc:title>
</cp:coreProperties>
</file>